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46D-8D0B-41DF-B791-0D632900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B81-BE67-4664-BC43-CAAD214F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2663-CFB0-4A1F-A2A4-FBD3383D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9349-58A0-418E-9276-C0ED5865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FF4F-96DF-41C9-A732-80660B1E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EA7A-DEAC-43C2-A201-B4E5CF78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69FF-47D1-4FCC-B1AD-0363F1C4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464-236F-4BB6-A482-5B07A3EE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E836-0AFA-4A64-93A7-E3246D2D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1204-F52B-4268-A5B1-4D828833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7530-49CE-4EAD-8C3B-25E61101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37EC-8E7E-413B-B3D4-C7AB57AD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8839-628E-4FD4-BA70-495D7D3A5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tnam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tnam War -1959 to 197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Vietnamese and the National Liberation Front (NLF) against the United States forces and the South Vietnamese arm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tnam gained independence from France during the First Indochina W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end of this war, the country was temporarily divided into North and South Vietn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Vietnam came under the control of Vietnamese Communists who had opposed France and who aimed for a unified Vietnam under Communist ru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th was controlled by non-Communist Vietnam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ed States became involved in Vietnam because American policymakers (Politicians) believed that if all of Vietnam fell under a Communist government, Communism would spread throughout Southeast A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.S. government helped to create the anti-Communist South Vietnamese government. This government’s repressive policies led to rebellion in the Sou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 was the forming of The National Liberation Front with the aim of overthrowing the government of South Vietnam and reunifying the coun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65 the United States sent in troops to prevent the South Vietnamese government from collapsing beginning the Vietnam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States failed to achieve its goal, and in 1975 Vietnam was reunified under Communist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6 Vietnam officially became the Socialist Republic of Vietn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war, approximately 3.2 million Vietnamese were killed, another 1.5 million to 2 million Lao and Cambodians who were drawn into the war di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rly 58,000 Americans lost their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20:56:32Z</dcterms:created>
  <dc:creator>Sharen Farthing</dc:creator>
  <dc:description/>
  <dc:language>en-US</dc:language>
  <cp:lastModifiedBy>Sharen Farthing</cp:lastModifiedBy>
  <dcterms:modified xsi:type="dcterms:W3CDTF">2008-04-20T21:10:57Z</dcterms:modified>
  <cp:revision>2</cp:revision>
  <dc:subject/>
  <dc:title>Vietnam War</dc:title>
</cp:coreProperties>
</file>